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45A49-1AD9-40ED-AD0B-F450546D8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F71C3-7A66-42EC-9578-334C76E62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2D93F-8386-460C-9F5C-7D686A2B3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3D527-79BE-45C4-9E9B-2C2584CC4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DA9A7-3035-49A0-9446-6FCF43E71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BC46D-4A04-41B7-8910-178A33A78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017F5-D152-4C6B-9C6F-049B63E36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700C5-E205-4AE9-9BD8-66359C7B7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16167-B56D-45B7-ACD3-5BE47B9F5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A0E0C-3D6C-4DE8-81AE-692AA8C69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F404C-C63C-4FCE-ADAC-F125C68C4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747B3-47D3-4EEE-9643-4782A61EC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F6A60-FCBB-4378-A88A-516DB615E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4828E-E4BF-4292-9369-B05EF5A99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238DC-EE66-46EA-90D3-1DEEE3F7B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41765-D0A1-49C4-8219-D23A571B6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A45AB-1265-4DAC-A7CC-9BFE74D48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EA0C3-A499-4355-A5F2-09B084119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6E5A0-4F35-48FE-974E-E0B2B7164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42494-7A3C-4DEF-A7D8-59A34DFB9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ED0AC-1386-43E2-A9D3-2F3E9E3F4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479C6-E368-4DC4-A6F6-B9A8D5DC5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6CD4F-DCDA-435B-A7E9-61116F520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42963-C832-40DA-BF48-92C4150AE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CCD7E-277F-4820-8100-EC037B22069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E38A1-845E-4093-BC69-11068758D84A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1.american.edu/TED/taliban-poppy.htm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" descr=""/>
          <p:cNvPicPr/>
          <p:nvPr/>
        </p:nvPicPr>
        <p:blipFill>
          <a:blip r:embed="rId1"/>
          <a:stretch/>
        </p:blipFill>
        <p:spPr>
          <a:xfrm rot="801600">
            <a:off x="4952520" y="228240"/>
            <a:ext cx="4191120" cy="2832120"/>
          </a:xfrm>
          <a:prstGeom prst="rect">
            <a:avLst/>
          </a:prstGeom>
          <a:ln w="0">
            <a:noFill/>
          </a:ln>
        </p:spPr>
      </p:pic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7621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Afghanistan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y: Keaton Alan Easley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d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x Ne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2"/>
          <a:stretch/>
        </p:blipFill>
        <p:spPr>
          <a:xfrm rot="19428000">
            <a:off x="-457200" y="228240"/>
            <a:ext cx="4148280" cy="31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228600" y="127080"/>
            <a:ext cx="8839080" cy="62737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1523880" y="6400800"/>
            <a:ext cx="609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Map showing opium cultiv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" descr=""/>
          <p:cNvPicPr/>
          <p:nvPr/>
        </p:nvPicPr>
        <p:blipFill>
          <a:blip r:embed="rId1"/>
          <a:stretch/>
        </p:blipFill>
        <p:spPr>
          <a:xfrm>
            <a:off x="6095880" y="4419720"/>
            <a:ext cx="3048120" cy="2036520"/>
          </a:xfrm>
          <a:prstGeom prst="rect">
            <a:avLst/>
          </a:prstGeom>
          <a:ln w="0">
            <a:noFill/>
          </a:ln>
        </p:spPr>
      </p:pic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Opium Poppy Tra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80520" y="1218960"/>
            <a:ext cx="85410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fghanistan is the world’s largest producer of opium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fghanistan made 1 billion dollars at the farm level of processing the opium poppy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profits from opium has been used in the up rise of tribal warlord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 2009 an estimated 1.6 million people in Afghanistan participated in opium cultivation, which lowered from 2.4 million in 2008, a 27 percent drop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3" name=""/>
          <p:cNvSpPr/>
          <p:nvPr/>
        </p:nvSpPr>
        <p:spPr>
          <a:xfrm>
            <a:off x="5943600" y="649116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Picture of Opium Poppi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Facts of the Afghan Woma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95" name="" descr=""/>
          <p:cNvPicPr/>
          <p:nvPr/>
        </p:nvPicPr>
        <p:blipFill>
          <a:blip r:embed="rId1"/>
          <a:stretch/>
        </p:blipFill>
        <p:spPr>
          <a:xfrm>
            <a:off x="1066680" y="4027320"/>
            <a:ext cx="2210040" cy="2132280"/>
          </a:xfrm>
          <a:prstGeom prst="rect">
            <a:avLst/>
          </a:prstGeom>
          <a:ln w="0">
            <a:noFill/>
          </a:ln>
        </p:spPr>
      </p:pic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very 30 minutes, an Afghan woman dies during childbirth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87 percent of Afghan women are illiterate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30 percent of girls have access to education in Afghanistan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1 in every 3 Afghan women experience physical, psychological or sexual violence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44 years is the average life expectancy rate for women in Afghanistan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70 to 80 percent of women face forced marriages in Afghanistan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7" name=""/>
          <p:cNvSpPr/>
          <p:nvPr/>
        </p:nvSpPr>
        <p:spPr>
          <a:xfrm>
            <a:off x="457200" y="6248520"/>
            <a:ext cx="350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Woman in Afghanist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Sourc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a3c145"/>
                </a:solidFill>
                <a:uFillTx/>
                <a:latin typeface="Tahoma"/>
                <a:hlinkClick r:id="rId1"/>
              </a:rPr>
              <a:t>http://www1.american.edu/TED/taliban-poppy.ht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0T15:33:15Z</dcterms:created>
  <dc:creator>ws12059</dc:creator>
  <dc:description/>
  <dc:language>en-US</dc:language>
  <cp:lastModifiedBy>ws12059</cp:lastModifiedBy>
  <dcterms:modified xsi:type="dcterms:W3CDTF">2010-05-20T14:03:03Z</dcterms:modified>
  <cp:revision>9</cp:revision>
  <dc:subject/>
  <dc:title>Afghanistan</dc:title>
</cp:coreProperties>
</file>